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434-C9D8-437E-8E9C-E4FFE064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E65-7480-4B74-86CB-2F28643E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93D0C-9797-4006-89DB-167248F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680D7-9126-4357-B4F9-DC5A89C0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A136E-8062-4A61-A1FA-3AC98616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0D97-0CEC-4788-87B6-4CB9F4A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3E4F2-2A8B-4279-9CB6-7DAB432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CA702-D813-4483-ACD4-8471B8D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9D781-C6D8-430F-85E2-7E619080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8EC0-C6A9-4083-8353-A21DD6EB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0EC82-56A6-45AA-AA5B-FF49E9D1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C08DC-F308-4462-96C4-4EFB7BE0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7E6-3CAC-40CA-B0C0-D3CC3ACA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5870C-08EE-4EC8-962D-D508B4F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DFCFB-0181-4E8C-BD1B-AEE5FF92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15F8F-5576-4614-B62F-7448622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B51B8-F36E-45C1-BA22-5C2F08A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131EF-32A6-40A6-BD81-C71E0CD8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25B53-3246-42D8-94CD-E1177F9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347F-0685-4DFF-A8CE-7AD718A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A3A07-F1B3-4BC4-BDD9-98DBACBD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08EDD-BD8B-4760-B9CE-9FF4B28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5D6C-80DB-4091-9ACB-52E6924A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49A-3990-4801-AE85-FB63300B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5568F-A18A-4424-B047-48944FDE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EA03-3051-4204-893E-92D00128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63ED9-534C-4EE2-BFA2-371F5EA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A7FDF-6CBE-4017-9954-65E9B997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190D-A1A5-46CF-A43B-65731CB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2F25-C587-4B17-B646-8D173F1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3881D-CB62-4E73-BD17-B47FC2F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A720E-007C-4018-BB1D-A166E9C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2101-8133-4A03-8E9D-97F68434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9F21E-29B7-4115-B0C3-34EB696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26C-AE28-4613-A40C-06ACB69D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07CCD-7800-4116-9E41-3FF83E2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3A57E-376B-475F-AC10-923F42D3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3A7A-47C4-4681-BE56-24F3B770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3AAE9-3709-4292-8400-2803310B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FFAFE-625D-4927-BA61-CA6BA59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164A0-4ED7-44D6-97D7-1215722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6B8AD-A61E-4E4B-B70A-5B4F60D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F08D4-E8BE-4A9E-B538-886BA297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CA83E-D2E7-4101-8B2E-7B626C4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9B5DB-CE7C-4904-A5DF-2F79BC4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4FB0-431B-4BCC-A632-C89BC820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CB39-0EC5-40DC-A47A-5BB2F2B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37A6F-6DF2-416B-BE10-8C6F5EF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19667-74C6-40D9-B523-2BD91BD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502B5-96FE-42F9-8375-A9F4867C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B1C92-CDDA-4354-A2CE-7DFC2CED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A5159-9099-4C04-9FC5-386748E1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895DE-87AC-472F-85DB-6C44E8F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6F760-F5D6-446D-98EC-B675CA1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8FFD1-0BC2-47B0-AC4C-FFF9B3E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3273D-79A3-47E5-AD74-E3B43BA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765-4918-4BA8-9680-AAA66A9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E89AE-3E96-4902-BCB9-870B33D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7B17D-5E80-4A2C-99B5-6C92F33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C0315-E7F6-4986-B4DB-D0B7974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B14C3-ECCD-4D00-A83E-191FAB41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F43DD-ED7F-45DA-9B57-426BD32C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DCB9E-5317-45AB-803A-E6A8F67A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189C1-3179-44BA-BA9B-1F0506A5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A0782-C84B-47FC-B78B-A402651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80BFC-1481-46DE-90D1-40DFD03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012B0-B419-4B32-8C5D-FF0E491B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8005-B155-4422-B829-01CA23E8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19F71-6E87-405B-8EDE-43C1E0A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A90ED-4F93-4F95-AF81-52AC537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536F5-3E29-48C4-B4E0-4ACF9967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09C96-91D8-44F2-B171-01B3F0A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0EF90-E2FA-408E-B58E-3231E4E0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AA3FA-CE73-4E81-B474-CC38135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8BFFC-1A1C-4AFC-97C9-EDD4EC9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165EA-5529-432F-8B2C-41B0171A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5FDBD-0FE2-4326-8DE5-BE42B2FD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9E1EC-FBB7-4CF7-B89B-593B9EC3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0DF0-3643-465E-9C91-7E1DB157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C7257-23AF-4023-8CC4-5B5BF934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FFACA-8247-4B37-88CA-786FE89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4AB18-2AB2-4D9B-9AEB-D9F8255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D5B9C-F497-4066-98AD-BFD9937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3A32D-8A93-4639-918B-2B5A779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A80F5-F208-40FF-9AFC-ACD8D34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760EA-F0B9-4BFF-98C6-C862883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90954-3CF7-4AA2-A43C-18EDCD1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3927F-DF04-48D8-92E3-4BBAD3B7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231F1-446E-4526-A5A3-48DE51AA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79E5-26A0-4505-835C-0CE8736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3890E-B028-48D3-96D1-65EAF196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136D5-EDB9-451B-830F-2803DF3E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1FE7A-415D-4C52-8ABB-5973BE0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E7950-6804-4F9B-AE63-9BD0C6EF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80021-E207-4397-8839-140F7C4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ADFDF-7C42-4CAD-B356-1804A7FF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25911-F1F8-4394-B38F-C617EDFB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856B7-0EB6-4B01-91A5-E896D12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DDE4D-9F96-4166-BB7A-8126E31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3A7AFC-2B7E-4298-AFCD-A2EFA21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437F-96E8-4D4A-B3C5-40591D0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6D8A7-EE73-4AC7-BE35-6B6D71C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DC371-B67A-44D3-A33D-907035A3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AE03D-1E32-4CAF-9072-BF298A52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663B2-61A2-4E32-A8E5-DC6ED6D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C0A3C-D5F1-46A2-A3E1-B8BB1B42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416CF-52DB-4818-8CAE-F427EAB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FF2DE-A383-4633-B136-19447C53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FAE19-145A-442B-9B7E-531F38B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BD83C-52B4-4D83-B93F-279A280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E3CD8-4739-4096-AE0A-49527AB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196-B219-491D-804A-E60DF637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3FCE-D7D7-4C03-982C-FFAD1854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A15CF-DBEB-491B-977A-6C578DA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66FC9-3A8D-4D2C-9BB3-1741CF9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95F9C-2304-4340-AD55-AEAFCE1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68422-C711-4777-9C80-0A1308C3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FCA69-EC98-468D-8437-2A273574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4ADD5-EF3D-4CD9-B414-F67C8024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011E0-1D46-4CAC-AFEB-469530E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E566D-E66A-471B-BAA7-4FF0C09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D4B45-80C0-488C-8286-73ACAB0E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ABB8E-3E44-4FFD-8240-19EBF241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BC5D-1065-4960-BD94-3659610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18D0A-54CC-47B6-AC79-7BF8DE7C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FB4339-7943-41F4-BA0D-56384BF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9D598-EAB0-4E1E-A3C1-7AA7F18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4031A-E09C-42AC-BD8F-6A6335B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FC5C7-C243-459B-B3E1-6B96602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0BFE3-AAB6-4D17-BCC4-338B490F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B2885-DE21-48E1-8A90-EC008698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5B0C6-618C-4325-A965-18752A86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DB655-9C17-44EB-BCAC-F512DB9C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C0CC8-BB15-459C-9CD3-B092AA9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2372-9413-43A4-970D-3CD6870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C2526-B184-4000-8502-3DB11FEC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15B44-58D6-41BD-9A6D-4A3DEB2D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E526D-C46E-4946-A837-D75B998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3C7CD-8366-4F1B-8181-A8FE5260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E80F9-2460-410B-9EE3-995B9C2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B5B8B-582B-42C8-8771-E797492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ACBF0-2609-4C92-B051-3358C8E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15696-05C2-40EE-AA7A-AB0B7093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88493-2978-4FAC-9602-9B2BC37D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61F4C-E07F-40AD-B553-FB97327E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476-1FF3-4F33-9FB0-6E04A820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30AC5-8A2F-4BC5-AFA0-8E15BC6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324C5-E1B2-45EA-8A76-48DFD5C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F1B08-79C9-4EDE-A198-005202F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8E99A-2E69-4849-A80D-75EF1D8A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43754-DF07-40E4-AF04-220290A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E71EC-32F3-4EAD-B925-04B6595E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6F290-C562-447D-B431-D450321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43B56-765C-4F27-8563-88D36BE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91C91-AE57-479D-B5C1-20CC9C7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67F65-457A-491A-872D-46535824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F42C-DFBF-4BB7-81F8-6EAF78DD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9C302-227C-4265-8171-AA32E90A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E059E-B81F-4AD7-8815-38D70345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09A9D-91FA-468E-BF97-F70AD21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DD4ED-8B19-4BC4-8D2C-5C905B4B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550DA-018B-483B-9866-FB4A8DAF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CCA41-5049-4D2D-9600-1FFEC6C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175A7-D78D-4D4D-A9A6-BA3C8D1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E12A6-F4D8-4858-913F-2C13C61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A5171-DC3F-45E2-BD7D-3C46C2BD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7F28E-CDD1-4143-B6D7-EC84F1B4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BF5D-6DEE-4FC7-81E4-11389BC8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B7E72-CF72-48B8-9404-AA5FB72D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9CEEC9-5E2F-4699-B038-2AE60BD7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73D19-D8AC-4421-8910-80483E16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0718-21A3-4490-A62A-CF24B3A3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0539-6E04-4725-9E0E-62A37BCB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2B55-DF1D-4D81-8F75-5F7F248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AB7B-7FD2-4539-BEE5-F9C1C12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229-1232-4006-8C47-38E44CF6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6226-A1E7-456D-A942-F4756D7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0931-27AB-4B69-9E9D-46761483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BC92-1382-4879-AA64-052FAD7A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F9A2-B9B4-4E5B-838E-DF01470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1850-0134-4A92-93F9-78A86AE6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ECB3-6689-425C-834C-698F2662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EB72A-58FA-4B01-BC0D-B98175C3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C01E-1EE9-4371-9532-11E03202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8517-9085-46D2-8BB7-C802E157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AB31-F78B-47DC-9693-5AE0B97E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5D7-5F96-46B3-988C-ACC76BF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CA9F-751B-4093-BF5F-0C108FD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30716-DD2A-4636-9EBD-700C8CB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FBBF-9F4C-4C4B-A6F2-C52D6C4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2F58E-5205-4243-A932-1CF48A7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65AE-B86D-470D-A35B-251924D4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79FA-9BF1-455E-B2F3-97F684E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0DF9-7CF7-4C9A-94DA-3C74D32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D941-B6BC-4005-AC6E-C5A3F7B9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E228-5390-4DAF-B186-E34F4AE5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14DA-72FD-4D51-ABE8-CB7054C7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B9D-3C83-4DBB-84CF-5ACA5D32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E49E-1D57-4393-B76F-2C813DB7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EE238-93E9-4556-A1D9-CFE29CD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DFB2-8FB3-45D1-8D49-F561CC2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1A36-D065-437D-9BFF-14D4E1B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4F1B-E5D4-4B12-92C3-93EDC14B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1065-0D59-4CD6-A94C-8F8502B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B4B81-787E-4D19-BDCC-7BFAF26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8FDA-47DC-4B2C-957F-8E50693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01C6-33C2-4DB7-AC4A-28983F1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AB9EE-1A1A-47F5-88C8-D70CEB3B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A1D-0E11-4087-9588-2388DEA1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0835-D04C-4AC1-AD5C-31EA2229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45676-9326-4ED4-85F0-31085C34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2A012-3BA9-49AB-B393-B649AE13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6F63F-BE33-4931-AB7A-9A90724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3315-20F7-4CB4-ADD7-10DC20B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8B1B-9EC5-4064-BA4F-1CCFBF8E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ED832-A476-4347-910C-07C1314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A01B-F999-489E-B13B-82A3E14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4200-A245-434D-B004-4194146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087B-3D58-4783-9895-22A8324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282-9FF2-44D7-B532-88DEE69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C961-98D4-4DF3-A2A6-8CDAF282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F317-F1CC-4297-8DDC-F907EA80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25EC-C974-4226-AD36-C1904739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4095-B85E-4882-BC12-A9114E10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89B7-A99E-48EC-8B23-0C6A885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E0A4-59A8-4FB9-B1F3-2CF1A8C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A624-3DED-434E-A855-0B6D8C2E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421AB-CB38-41AD-AA1B-922335D5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D0A0-FBA2-406C-BA1B-7BDB4155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E542-9EBF-4726-AE27-981EEBA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A81-A96D-46CC-84A2-E940104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5AD0-4A55-4A50-B4C3-2068C763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238D-832C-4C01-8ACF-F5380A4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94A5A-B110-4A20-9704-7855ED0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1B3E3-8BA2-475B-9354-C7FE748E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9E83-F7BD-4C16-9629-3DF277B9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73C4C-9D7D-40C9-ADA4-BC96FEB9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8CCE-A869-4E5D-9497-991F8843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CD83-5A7A-4323-8EC9-675566C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C253-06F3-4560-A362-11F97DB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EE07-4C16-4691-BE4C-5A09CD0F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94D-83C9-4061-88F2-F8A21D1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A553-9685-4748-96E2-01BD0DC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1A2D-1756-4522-B7DB-4F3EFD3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1BD4-D8AC-4A1D-B6C9-A30799B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2E1AE-69C9-41A0-94E7-5BCF7DB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ECAE0-1C90-4723-BE0A-0444F745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F82D-F105-4C0A-ADB6-87552D0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F8B3D-FAF7-40D9-9C69-B900A928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E3AE8-4BA5-41F7-B1CE-099D1D6D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256E-3FE3-43FE-ADB7-9E45BDC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DE511-4614-48A2-9E1A-D272E7E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B342-9366-4C44-8103-6B39DA33FB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0118-384F-41AE-BCEC-24BD46292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436-C79A-41F7-A2B2-28B0889C5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7B4B-AC32-4FDD-BF5E-33F72F8691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465D-A575-468F-B021-FF39E201E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B27-229B-4A12-A189-F50391E5B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C57B-2D84-4226-9014-C511F0936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03B-3A1B-486C-B729-5BCBD106D7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EFBA-CA08-4DAA-8AB7-E6D2EE705A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4FD-76FE-4FC7-8938-300923374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D8CD-EC08-44BE-8CF7-C30BED224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08D-CEAC-4E54-80CA-8047AE7B0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8B6-7113-4049-B039-11D37CB5A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7477-DD08-4BC6-A3B2-C133AE81B4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A90-7585-4301-B4C3-A03DEE201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8CEF-BEB8-4709-868E-D86A06861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BD90-B3F9-4B43-BFED-427123A1C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A8A-D807-409B-BC1B-963095DC5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4C42-11FA-409B-875A-492792A71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2A2-4029-4D7E-9778-3769CF819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548D-D247-4A2F-B0F9-4EBBE243E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7FD-C092-4720-B832-123CDCAAC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0B9-AC70-42D5-8DF5-48890B56C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909E-2519-4EA4-AC1E-5C0A0361E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46B4-F901-4EE6-B5D3-6354D508F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554-CB7B-4CD1-A11D-956F7CAA5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A272-CA9B-4E17-9409-B117821F2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FFF-8CA3-475A-BC6F-E2B3766A6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81E4-E372-42D1-A47F-98A3F435F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322-41F8-409B-A456-925ED9E9B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3CDD-1B79-41D1-B82E-067CC2B31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B84-3817-4222-9128-A53E7CCEC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8A00-82F6-41B5-BC3F-FC0E7C25FC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D8C-302D-4F28-9771-BFD0430D5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A176-5FFF-426E-B122-1E20B72D1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5A27-BF41-4145-BC16-D7D6FC0FDC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D613-28E4-4F6A-B2A5-09B41A7D1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90D8-6068-4A6F-8D03-85327E84C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1E0-EE77-4486-9E19-0C70FFEF67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8FE-1797-431A-BF56-4D731C7D39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28800" y="3009960"/>
            <a:ext cx="7286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533520" y="1542960"/>
            <a:ext cx="8076960" cy="3772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705672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7056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539640" y="2781360"/>
            <a:ext cx="705672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539640" y="3357720"/>
            <a:ext cx="8136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81360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468360" y="4595760"/>
            <a:ext cx="813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763560"/>
            <a:ext cx="8562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04800" y="1347840"/>
            <a:ext cx="7934400" cy="4162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826920" y="2752560"/>
            <a:ext cx="482472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7777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38280" y="1014480"/>
            <a:ext cx="7867440" cy="4829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755640" y="23637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770400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770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623880" y="731880"/>
            <a:ext cx="7896240" cy="6010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3457440"/>
            <a:ext cx="691200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69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57080" y="4824360"/>
            <a:ext cx="6912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69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826920" y="6178680"/>
            <a:ext cx="69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352440" y="766800"/>
            <a:ext cx="84391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538200" y="1557360"/>
            <a:ext cx="8067600" cy="3743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727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576360" y="1257480"/>
            <a:ext cx="7991280" cy="4343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4752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47530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171360" y="828720"/>
            <a:ext cx="8801280" cy="5695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4032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4032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684360" y="5300640"/>
            <a:ext cx="4032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403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40:2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